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LASER.WAV" ContentType="audio/x-wav"/>
  <Override PartName="/ppt/media/image2.gif" ContentType="image/gif"/>
  <Override PartName="/ppt/media/zipdn102.wav" ContentType="audio/x-wav"/>
  <Override PartName="/ppt/media/explode.wav" ContentType="audio/x-wav"/>
  <Override PartName="/ppt/media/PROJCTOR.WAV" ContentType="audio/x-wav"/>
  <Override PartName="/ppt/media/camera.wav" ContentType="audio/x-wav"/>
  <Override PartName="/ppt/media/CHIMES.WAV" ContentType="audio/x-wav"/>
  <Override PartName="/ppt/media/WHOOSH.WAV" ContentType="audio/x-wav"/>
  <Override PartName="/ppt/media/gunshot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A032-24A2-4A63-8262-BEACF411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B5B9-E83B-49C9-9C4A-D809A979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15D-BEA1-4C16-8941-5D3A7724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441-1577-4CF6-8688-F61013BB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A07-7A45-496C-9B9E-EA20116C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2A60-987C-451F-A6F3-7FD2F2D8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F5C-AF0E-4582-BDED-2072A19F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759F-D025-4852-B7A5-E82C4C98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E46-AA6D-4C2F-80F1-5300A057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DDF-613B-4DB3-8A97-751DCFFE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529-49FD-4675-8CF3-B57936A4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C62-C43D-44F0-A50B-A9FFDCD1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7A6C-EDE1-46CA-BB6F-83A783C30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zipdn102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PROJCTOR.WAV"/><Relationship Id="rId6" Type="http://schemas.openxmlformats.org/officeDocument/2006/relationships/audio" Target="../media/LASER.WAV"/><Relationship Id="rId7" Type="http://schemas.openxmlformats.org/officeDocument/2006/relationships/audio" Target="../media/PROJCTO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camera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camera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52720" y="963720"/>
            <a:ext cx="5061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 you feel like it’s hard getting everything working toget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4040" y="5114880"/>
            <a:ext cx="47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ll start focusing on one thing at a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257800" y="2857680"/>
            <a:ext cx="3200400" cy="400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54080" y="925560"/>
            <a:ext cx="28004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Using Tables to Organize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2952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the data from Example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42670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From 1990 to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905120"/>
            <a:ext cx="8382240" cy="1396800"/>
            <a:chOff x="380880" y="1905120"/>
            <a:chExt cx="8382240" cy="1396800"/>
          </a:xfrm>
        </p:grpSpPr>
        <p:sp>
          <p:nvSpPr>
            <p:cNvPr id="51" name=""/>
            <p:cNvSpPr/>
            <p:nvPr/>
          </p:nvSpPr>
          <p:spPr>
            <a:xfrm>
              <a:off x="380880" y="1905120"/>
              <a:ext cx="838224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Year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970    1975    1980    1985    1990    199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otal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6269    6390    6011    7789    4859    448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Change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              121    -379     1778   -2930    -37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880" y="2361960"/>
              <a:ext cx="838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880" y="2819160"/>
              <a:ext cx="8382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33720" y="1905120"/>
              <a:ext cx="1440" cy="1396800"/>
            </a:xfrm>
            <a:custGeom>
              <a:avLst/>
              <a:gdLst/>
              <a:ahLst/>
              <a:rect l="l" t="t" r="r" b="b"/>
              <a:pathLst>
                <a:path w="1" h="880">
                  <a:moveTo>
                    <a:pt x="0" y="0"/>
                  </a:moveTo>
                  <a:lnTo>
                    <a:pt x="0" y="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00400" y="1905120"/>
              <a:ext cx="1440" cy="1396800"/>
            </a:xfrm>
            <a:custGeom>
              <a:avLst/>
              <a:gdLst/>
              <a:ahLst/>
              <a:rect l="l" t="t" r="r" b="b"/>
              <a:pathLst>
                <a:path w="1" h="880">
                  <a:moveTo>
                    <a:pt x="0" y="0"/>
                  </a:moveTo>
                  <a:lnTo>
                    <a:pt x="0" y="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67080" y="1905120"/>
              <a:ext cx="1800" cy="1396800"/>
            </a:xfrm>
            <a:custGeom>
              <a:avLst/>
              <a:gdLst/>
              <a:ahLst/>
              <a:rect l="l" t="t" r="r" b="b"/>
              <a:pathLst>
                <a:path w="1" h="880">
                  <a:moveTo>
                    <a:pt x="0" y="0"/>
                  </a:moveTo>
                  <a:lnTo>
                    <a:pt x="0" y="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4120" y="1905120"/>
              <a:ext cx="1440" cy="1396800"/>
            </a:xfrm>
            <a:custGeom>
              <a:avLst/>
              <a:gdLst/>
              <a:ahLst/>
              <a:rect l="l" t="t" r="r" b="b"/>
              <a:pathLst>
                <a:path w="1" h="880">
                  <a:moveTo>
                    <a:pt x="0" y="0"/>
                  </a:moveTo>
                  <a:lnTo>
                    <a:pt x="0" y="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1905120"/>
              <a:ext cx="1440" cy="1396800"/>
            </a:xfrm>
            <a:custGeom>
              <a:avLst/>
              <a:gdLst/>
              <a:ahLst/>
              <a:rect l="l" t="t" r="r" b="b"/>
              <a:pathLst>
                <a:path w="1" h="880">
                  <a:moveTo>
                    <a:pt x="0" y="0"/>
                  </a:moveTo>
                  <a:lnTo>
                    <a:pt x="0" y="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67480" y="1905120"/>
              <a:ext cx="1800" cy="1396800"/>
            </a:xfrm>
            <a:custGeom>
              <a:avLst/>
              <a:gdLst/>
              <a:ahLst/>
              <a:rect l="l" t="t" r="r" b="b"/>
              <a:pathLst>
                <a:path w="1" h="880">
                  <a:moveTo>
                    <a:pt x="0" y="0"/>
                  </a:moveTo>
                  <a:lnTo>
                    <a:pt x="0" y="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80880" y="33526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During which 5-year period did the total passenger car production decrease the leas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5715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From 1970 to 19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800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During which 5-year period did the total passenger car production increase the leas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Using Graphs to Organize Real-Life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3. Draw a line graph to organize the data for Company C’s passenger car produc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143000" y="2438280"/>
            <a:ext cx="3657600" cy="3657600"/>
            <a:chOff x="1143000" y="2438280"/>
            <a:chExt cx="3657600" cy="3657600"/>
          </a:xfrm>
        </p:grpSpPr>
        <p:sp>
          <p:nvSpPr>
            <p:cNvPr id="67" name=""/>
            <p:cNvSpPr/>
            <p:nvPr/>
          </p:nvSpPr>
          <p:spPr>
            <a:xfrm>
              <a:off x="1143000" y="33526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43000" y="365760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43000" y="39625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43000" y="42670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43000" y="457200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43000" y="48769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43000" y="51814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43000" y="548640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3000" y="57913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43000" y="3048120"/>
              <a:ext cx="30481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4300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4792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52840" y="3048120"/>
              <a:ext cx="30456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740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62320" y="3048120"/>
              <a:ext cx="30492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67240" y="2438280"/>
              <a:ext cx="30456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71800" y="3048120"/>
              <a:ext cx="30492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7672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81640" y="3048120"/>
              <a:ext cx="30456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8620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9112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6040" y="3048120"/>
              <a:ext cx="30456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3000" y="274320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3000" y="24382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04920" y="2819520"/>
            <a:ext cx="106668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6095880"/>
            <a:ext cx="4724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    75    80    85    90    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048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43434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4495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98680" y="3930480"/>
            <a:ext cx="504720" cy="290520"/>
          </a:xfrm>
          <a:custGeom>
            <a:avLst/>
            <a:gdLst/>
            <a:ahLst/>
            <a:rect l="l" t="t" r="r" b="b"/>
            <a:pathLst>
              <a:path w="318" h="183">
                <a:moveTo>
                  <a:pt x="0" y="183"/>
                </a:moveTo>
                <a:lnTo>
                  <a:pt x="318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598920"/>
            <a:ext cx="512640" cy="272880"/>
          </a:xfrm>
          <a:custGeom>
            <a:avLst/>
            <a:gdLst/>
            <a:ahLst/>
            <a:rect l="l" t="t" r="r" b="b"/>
            <a:pathLst>
              <a:path w="323" h="172">
                <a:moveTo>
                  <a:pt x="0" y="172"/>
                </a:moveTo>
                <a:lnTo>
                  <a:pt x="323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24120" y="3151080"/>
            <a:ext cx="525600" cy="409680"/>
          </a:xfrm>
          <a:custGeom>
            <a:avLst/>
            <a:gdLst/>
            <a:ahLst/>
            <a:rect l="l" t="t" r="r" b="b"/>
            <a:pathLst>
              <a:path w="331" h="258">
                <a:moveTo>
                  <a:pt x="0" y="258"/>
                </a:moveTo>
                <a:lnTo>
                  <a:pt x="331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27480" y="3209760"/>
            <a:ext cx="544320" cy="1206720"/>
          </a:xfrm>
          <a:custGeom>
            <a:avLst/>
            <a:gdLst/>
            <a:ahLst/>
            <a:rect l="l" t="t" r="r" b="b"/>
            <a:pathLst>
              <a:path w="343" h="760">
                <a:moveTo>
                  <a:pt x="343" y="7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49560" y="4435560"/>
            <a:ext cx="486000" cy="117360"/>
          </a:xfrm>
          <a:custGeom>
            <a:avLst/>
            <a:gdLst/>
            <a:ahLst/>
            <a:rect l="l" t="t" r="r" b="b"/>
            <a:pathLst>
              <a:path w="306" h="74">
                <a:moveTo>
                  <a:pt x="306" y="7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28600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During which 5-year period did Company C’s passenger car production decrease the m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1148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From 1985 to 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7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7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7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7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Using Graphs to Organize Real-Life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4. Draw a line graph to organize the data for Company B’s passenger car produc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43000" y="2438280"/>
            <a:ext cx="3657600" cy="3657600"/>
            <a:chOff x="1143000" y="2438280"/>
            <a:chExt cx="3657600" cy="3657600"/>
          </a:xfrm>
        </p:grpSpPr>
        <p:sp>
          <p:nvSpPr>
            <p:cNvPr id="110" name=""/>
            <p:cNvSpPr/>
            <p:nvPr/>
          </p:nvSpPr>
          <p:spPr>
            <a:xfrm>
              <a:off x="1143000" y="33526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43000" y="365760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43000" y="39625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42670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43000" y="457200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43000" y="48769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43000" y="51814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43000" y="548640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3000" y="5791320"/>
              <a:ext cx="3657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43000" y="3048120"/>
              <a:ext cx="30481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4300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4792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52840" y="3048120"/>
              <a:ext cx="30456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5740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62320" y="3048120"/>
              <a:ext cx="30492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7240" y="2438280"/>
              <a:ext cx="30456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3048120"/>
              <a:ext cx="30492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7672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81640" y="3048120"/>
              <a:ext cx="30456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620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91120" y="2438280"/>
              <a:ext cx="304920" cy="365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96040" y="3048120"/>
              <a:ext cx="304560" cy="30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43000" y="274320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43000" y="2438280"/>
              <a:ext cx="3657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920" y="2819520"/>
            <a:ext cx="106668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6095880"/>
            <a:ext cx="4724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    75    80    85    90    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4419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4038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43434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17760" y="3579840"/>
            <a:ext cx="485640" cy="272880"/>
          </a:xfrm>
          <a:custGeom>
            <a:avLst/>
            <a:gdLst/>
            <a:ahLst/>
            <a:rect l="l" t="t" r="r" b="b"/>
            <a:pathLst>
              <a:path w="306" h="172">
                <a:moveTo>
                  <a:pt x="0" y="0"/>
                </a:moveTo>
                <a:lnTo>
                  <a:pt x="306" y="172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20760" y="3949560"/>
            <a:ext cx="486000" cy="525600"/>
          </a:xfrm>
          <a:custGeom>
            <a:avLst/>
            <a:gdLst/>
            <a:ahLst/>
            <a:rect l="l" t="t" r="r" b="b"/>
            <a:pathLst>
              <a:path w="306" h="331">
                <a:moveTo>
                  <a:pt x="0" y="0"/>
                </a:moveTo>
                <a:lnTo>
                  <a:pt x="306" y="331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4124160"/>
            <a:ext cx="485640" cy="324000"/>
          </a:xfrm>
          <a:custGeom>
            <a:avLst/>
            <a:gdLst/>
            <a:ahLst/>
            <a:rect l="l" t="t" r="r" b="b"/>
            <a:pathLst>
              <a:path w="306" h="204">
                <a:moveTo>
                  <a:pt x="0" y="204"/>
                </a:moveTo>
                <a:lnTo>
                  <a:pt x="306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46560" y="4164120"/>
            <a:ext cx="485640" cy="271440"/>
          </a:xfrm>
          <a:custGeom>
            <a:avLst/>
            <a:gdLst/>
            <a:ahLst/>
            <a:rect l="l" t="t" r="r" b="b"/>
            <a:pathLst>
              <a:path w="306" h="171">
                <a:moveTo>
                  <a:pt x="306" y="17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8640" y="4280040"/>
            <a:ext cx="486000" cy="117360"/>
          </a:xfrm>
          <a:custGeom>
            <a:avLst/>
            <a:gdLst/>
            <a:ahLst/>
            <a:rect l="l" t="t" r="r" b="b"/>
            <a:pathLst>
              <a:path w="306" h="74">
                <a:moveTo>
                  <a:pt x="306" y="0"/>
                </a:moveTo>
                <a:lnTo>
                  <a:pt x="0" y="74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228600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During which 5-year period did Company C’s passenger car production increase the m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41148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From 1980 to 19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8-16T12:38:46Z</dcterms:modified>
  <cp:revision>32</cp:revision>
  <dc:subject/>
  <dc:title>No Slide Title</dc:title>
</cp:coreProperties>
</file>